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wmf" ContentType="image/x-wmf"/>
  <Override PartName="/ppt/media/image22.png" ContentType="image/png"/>
  <Override PartName="/ppt/media/image13.jpeg" ContentType="image/jpeg"/>
  <Override PartName="/ppt/media/image23.png" ContentType="image/png"/>
  <Override PartName="/ppt/media/image27.jpeg" ContentType="image/jpeg"/>
  <Override PartName="/ppt/media/image10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19.png" ContentType="image/png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460-2FF5-4920-8EBC-29864F25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5F69-B0E3-4382-BEB9-88F02DAB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151-0CD9-45B2-AE6D-5AACD286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A133-7561-4512-96D5-4C81D38A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3DC-4D9B-4C94-B86B-2FC4B5D3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FDE-DC8D-4CAF-AA2E-01EF233C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9D9-126E-4074-990E-8B473AA8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48CD-29B4-4EFA-8963-861A3E53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C83-A99F-4DFB-88B0-DD57638E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154-3E25-440D-AEEC-CD9C02C7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2D9-34B6-4617-B261-924FB796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8CF-E0D7-4249-900C-3C23B080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B764-1F35-4DF3-B7F1-97506EC57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wmf"/><Relationship Id="rId9" Type="http://schemas.openxmlformats.org/officeDocument/2006/relationships/image" Target="../media/image20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1817640"/>
            <a:ext cx="7653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BOLILLA 9: Metabolismo de Aminoácidos. Digestión y absorción de Proteínas. Catabolismo de aminoácidos. Transaminación. Desaminación oxidativa y no oxidativa.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scarboxilación. Transporte de amoníaco: síntesis de glutamina. Glutaminasa. Organismos ureotélicos, uricotélicos y amoniotélicos. Ciclo de la urea. Costo energético. Destino del esqueleto carbonado. Aminoácidos cetogénicos y glucogénicos. Compuestos nitrogenados de importancia biológica derivados de aminoácidos.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3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4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413080" y="711360"/>
            <a:ext cx="444816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ULACION DEL CICLO DE LA 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4000" y="2708280"/>
            <a:ext cx="33130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gulación a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4581360"/>
            <a:ext cx="33130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gulación a larg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84720" y="2565360"/>
            <a:ext cx="230508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rbamil fosfato sintet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6436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N-Acetil 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24360" y="4292640"/>
            <a:ext cx="1800000" cy="916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iosíntesis de las enzimas del cic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12000" y="4292640"/>
            <a:ext cx="2663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Aumento proteínas de la di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Aumento degradación proteínas endógena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Inanició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35280" y="285264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635280" y="4724280"/>
            <a:ext cx="289080" cy="14472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48360" y="2349360"/>
            <a:ext cx="432000" cy="1008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4221000"/>
            <a:ext cx="431640" cy="1800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41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7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ASTO ENERGETICO DEL CICLO DE LA 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3157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Formación de Carbamilfosfato:   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Ingreso de Aspartato: 1 ATP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     AMP  +  PPi         2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N TOTAL: 4 uniones ricas en energía  ó  3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32360" y="3573360"/>
            <a:ext cx="792000" cy="144720"/>
          </a:xfrm>
          <a:custGeom>
            <a:avLst/>
            <a:gdLst>
              <a:gd name="textAreaLeft" fmla="*/ 138600 w 792000"/>
              <a:gd name="textAreaRight" fmla="*/ 574200 w 79200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236000" y="3645000"/>
            <a:ext cx="792000" cy="144360"/>
          </a:xfrm>
          <a:custGeom>
            <a:avLst/>
            <a:gdLst>
              <a:gd name="textAreaLeft" fmla="*/ 138600 w 792000"/>
              <a:gd name="textAreaRight" fmla="*/ 574200 w 79200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53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9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116000" y="1500120"/>
            <a:ext cx="7097760" cy="5097600"/>
          </a:xfrm>
          <a:prstGeom prst="rect">
            <a:avLst/>
          </a:prstGeom>
          <a:ln w="0">
            <a:noFill/>
          </a:ln>
        </p:spPr>
      </p:pic>
      <p:grpSp>
        <p:nvGrpSpPr>
          <p:cNvPr id="361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62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8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468360" y="51588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nterconexión del Ciclo de la U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con el Ciclo 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627280" y="221760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963800" y="466740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48360" y="5386320"/>
            <a:ext cx="10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Fuma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13640" y="4005360"/>
            <a:ext cx="49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75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1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2132280" y="533520"/>
            <a:ext cx="50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abolismo de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332000" y="1052640"/>
            <a:ext cx="6408720" cy="5529240"/>
            <a:chOff x="1332000" y="1052640"/>
            <a:chExt cx="6408720" cy="5529240"/>
          </a:xfrm>
        </p:grpSpPr>
        <p:pic>
          <p:nvPicPr>
            <p:cNvPr id="384" name="" descr=""/>
            <p:cNvPicPr/>
            <p:nvPr/>
          </p:nvPicPr>
          <p:blipFill>
            <a:blip r:embed="rId2"/>
            <a:stretch/>
          </p:blipFill>
          <p:spPr>
            <a:xfrm>
              <a:off x="1332000" y="1052640"/>
              <a:ext cx="6408720" cy="5529240"/>
            </a:xfrm>
            <a:prstGeom prst="rect">
              <a:avLst/>
            </a:prstGeom>
            <a:ln w="31680">
              <a:solidFill>
                <a:srgbClr val="00ffff"/>
              </a:solidFill>
              <a:miter/>
            </a:ln>
          </p:spPr>
        </p:pic>
        <p:sp>
          <p:nvSpPr>
            <p:cNvPr id="385" name=""/>
            <p:cNvSpPr/>
            <p:nvPr/>
          </p:nvSpPr>
          <p:spPr>
            <a:xfrm>
              <a:off x="3849840" y="1125360"/>
              <a:ext cx="1735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teínas intracelul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07680" y="1878120"/>
              <a:ext cx="13694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teínas die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34400" y="1878120"/>
              <a:ext cx="9594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99"/>
                  </a:solidFill>
                  <a:latin typeface="Arial"/>
                </a:rPr>
                <a:t>Aminoá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70560" y="2421000"/>
              <a:ext cx="15537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Esqueleto carbon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99680" y="2421000"/>
              <a:ext cx="32076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n-US" sz="12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03280" y="2708280"/>
              <a:ext cx="216072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iosíntesis de aminoácidos, nucleótidos y aminas biológ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84360" y="3357720"/>
              <a:ext cx="1366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arbamil fos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21440" y="339084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-cetoa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16360" y="4292640"/>
              <a:ext cx="863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CICLO DE LA 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08720" y="4138560"/>
              <a:ext cx="863640" cy="7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ICLO DE KRE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13080" y="4027320"/>
              <a:ext cx="8636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Arial"/>
                </a:rPr>
                <a:t>Interconexión Aspartato-arginino succina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77080" y="4292640"/>
              <a:ext cx="86364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19640" y="537372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95640" y="5516640"/>
              <a:ext cx="1871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producto de excreción del nitrógen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48360" y="5977080"/>
              <a:ext cx="14414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gluconeogénes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 rot="20286000">
            <a:off x="4708440" y="1952640"/>
            <a:ext cx="2448000" cy="4535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87480" y="4494960"/>
            <a:ext cx="31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bolismo del nitróge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32000" y="2637000"/>
            <a:ext cx="302400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76720" y="2637000"/>
            <a:ext cx="266220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"/>
          <a:srcRect l="54" t="4211" r="72064" b="56002"/>
          <a:stretch/>
        </p:blipFill>
        <p:spPr>
          <a:xfrm>
            <a:off x="5292720" y="1484280"/>
            <a:ext cx="1225440" cy="9716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rcRect l="33768" t="4211" r="48844" b="56002"/>
          <a:stretch/>
        </p:blipFill>
        <p:spPr>
          <a:xfrm>
            <a:off x="6372360" y="2565360"/>
            <a:ext cx="850680" cy="10810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997440" y="3789360"/>
            <a:ext cx="12952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77920" y="560160"/>
            <a:ext cx="86868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DESTINO DEL ESQUELETO CARBONADO DE LOS A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egún el destino que siga el esqueleto carbonado, luego de la separación del grupo amino, los aminoácidos se clasifican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Cetogénico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: son precursores de cuerpos cetónicos a través de la formación de acetoacetato y acetil-C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Glucogénicos</a:t>
            </a: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son precursores de intermediarios de la gluconeogénesis aportando piruvato, oxalacetato, fumarato, succinilCoA o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etogluta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Glucogénicos y cetogénico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: parte de su molécula es cet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nica y parte es gluc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10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11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6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18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19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4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426" name="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4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692360" y="981000"/>
            <a:ext cx="1224000" cy="20163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042200">
            <a:off x="1782720" y="3252600"/>
            <a:ext cx="1150920" cy="305568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35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1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443" name="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4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700360" y="4437000"/>
            <a:ext cx="934920" cy="2016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1187280" y="519120"/>
            <a:ext cx="6521760" cy="6338880"/>
            <a:chOff x="1187280" y="519120"/>
            <a:chExt cx="6521760" cy="6338880"/>
          </a:xfrm>
        </p:grpSpPr>
        <p:pic>
          <p:nvPicPr>
            <p:cNvPr id="451" name="" descr=""/>
            <p:cNvPicPr/>
            <p:nvPr/>
          </p:nvPicPr>
          <p:blipFill>
            <a:blip r:embed="rId1"/>
            <a:stretch/>
          </p:blipFill>
          <p:spPr>
            <a:xfrm>
              <a:off x="1187280" y="519120"/>
              <a:ext cx="6521760" cy="63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4284720" y="1370160"/>
              <a:ext cx="71892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Arial"/>
                </a:rPr>
                <a:t>Aldol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71960" y="2803680"/>
              <a:ext cx="93348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Arial"/>
                </a:rPr>
                <a:t>Ser-HO-met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Arial"/>
                </a:rPr>
                <a:t>transfer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08600" y="4149720"/>
              <a:ext cx="9950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10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Serin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deshidrat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27400" y="5516640"/>
              <a:ext cx="8762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</a:rPr>
                <a:t>P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284000">
              <a:off x="3332160" y="4510080"/>
              <a:ext cx="1079640" cy="24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58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4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409840" y="1487520"/>
            <a:ext cx="1491840" cy="598320"/>
            <a:chOff x="2409840" y="1487520"/>
            <a:chExt cx="1491840" cy="598320"/>
          </a:xfrm>
        </p:grpSpPr>
        <p:sp>
          <p:nvSpPr>
            <p:cNvPr id="466" name=""/>
            <p:cNvSpPr/>
            <p:nvPr/>
          </p:nvSpPr>
          <p:spPr>
            <a:xfrm flipH="1">
              <a:off x="3039840" y="17733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09840" y="1654200"/>
              <a:ext cx="5601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86360" y="1487520"/>
              <a:ext cx="4928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</a:rPr>
                <a:t>AL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 rot="10800000">
              <a:off x="3108240" y="1772640"/>
              <a:ext cx="573480" cy="28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2" y="8992"/>
                  </a:moveTo>
                  <a:arcTo wR="10800" hR="10800" stAng="-10221892" swAng="102218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2" y="8992"/>
                  </a:moveTo>
                  <a:arcTo wR="10800" hR="10800" stAng="-10221892" swAng="10221892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36640" y="1844640"/>
              <a:ext cx="3650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FAD</a:t>
              </a:r>
              <a:r>
                <a:rPr b="1" lang="en-US" sz="1200" spc="-1" strike="noStrike" baseline="30000">
                  <a:solidFill>
                    <a:srgbClr val="3333cc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900880" y="1878120"/>
              <a:ext cx="4716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FADH</a:t>
              </a:r>
              <a:r>
                <a:rPr b="1" lang="en-US" sz="1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285920" y="1485360"/>
            <a:ext cx="1818000" cy="1080360"/>
            <a:chOff x="1285920" y="1485360"/>
            <a:chExt cx="1818000" cy="1080360"/>
          </a:xfrm>
        </p:grpSpPr>
        <p:sp>
          <p:nvSpPr>
            <p:cNvPr id="473" name=""/>
            <p:cNvSpPr/>
            <p:nvPr/>
          </p:nvSpPr>
          <p:spPr>
            <a:xfrm>
              <a:off x="1355040" y="2382840"/>
              <a:ext cx="779400" cy="182880"/>
            </a:xfrm>
            <a:prstGeom prst="rect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122560" y="184464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39640" y="1989000"/>
              <a:ext cx="764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tioqui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 rot="18754800">
              <a:off x="1874160" y="1602720"/>
              <a:ext cx="574200" cy="57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2" y="8992"/>
                  </a:moveTo>
                  <a:arcTo wR="10800" hR="10800" stAng="-10221892" swAng="102218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2" y="8992"/>
                  </a:moveTo>
                  <a:arcTo wR="10800" hR="10800" stAng="-10221892" swAng="10221892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85920" y="1590840"/>
              <a:ext cx="10537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CoA-SH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58160" y="1951200"/>
              <a:ext cx="322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1187280" y="2565360"/>
            <a:ext cx="2808360" cy="42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580000" y="4005360"/>
            <a:ext cx="208908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5280" y="2637000"/>
            <a:ext cx="280836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859280" y="549360"/>
            <a:ext cx="217440" cy="5032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7" dur="30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3" dur="2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20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84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85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0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547640" y="907920"/>
            <a:ext cx="6146640" cy="5531040"/>
            <a:chOff x="1547640" y="907920"/>
            <a:chExt cx="6146640" cy="5531040"/>
          </a:xfrm>
        </p:grpSpPr>
        <p:grpSp>
          <p:nvGrpSpPr>
            <p:cNvPr id="492" name=""/>
            <p:cNvGrpSpPr/>
            <p:nvPr/>
          </p:nvGrpSpPr>
          <p:grpSpPr>
            <a:xfrm>
              <a:off x="1547640" y="907920"/>
              <a:ext cx="6146640" cy="5384520"/>
              <a:chOff x="1547640" y="907920"/>
              <a:chExt cx="6146640" cy="5384520"/>
            </a:xfrm>
          </p:grpSpPr>
          <p:pic>
            <p:nvPicPr>
              <p:cNvPr id="4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7640" y="907920"/>
                <a:ext cx="6146640" cy="53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"/>
              <p:cNvSpPr/>
              <p:nvPr/>
            </p:nvSpPr>
            <p:spPr>
              <a:xfrm>
                <a:off x="2943000" y="14238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62280" y="50097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093920" y="28364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2727000" y="61624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 rot="15312600">
            <a:off x="5892120" y="1665360"/>
            <a:ext cx="934920" cy="2158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611280" y="1833480"/>
            <a:ext cx="8026200" cy="3251160"/>
            <a:chOff x="611280" y="1833480"/>
            <a:chExt cx="8026200" cy="3251160"/>
          </a:xfrm>
        </p:grpSpPr>
        <p:grpSp>
          <p:nvGrpSpPr>
            <p:cNvPr id="51" name=""/>
            <p:cNvGrpSpPr/>
            <p:nvPr/>
          </p:nvGrpSpPr>
          <p:grpSpPr>
            <a:xfrm>
              <a:off x="611280" y="1833480"/>
              <a:ext cx="8026200" cy="3251160"/>
              <a:chOff x="611280" y="1833480"/>
              <a:chExt cx="8026200" cy="3251160"/>
            </a:xfrm>
          </p:grpSpPr>
          <p:pic>
            <p:nvPicPr>
              <p:cNvPr id="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833480"/>
                <a:ext cx="8026200" cy="32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2200" y="4653000"/>
                <a:ext cx="1233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ff"/>
                    </a:solidFill>
                    <a:latin typeface="Arial"/>
                  </a:rPr>
                  <a:t>Glutam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120360" y="4653000"/>
                <a:ext cx="17078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α</a:t>
                </a:r>
                <a:r>
                  <a:rPr b="0" lang="en-US" sz="18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-cetogluta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093480" y="3789360"/>
                <a:ext cx="31280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33cc33"/>
                    </a:solidFill>
                    <a:latin typeface="Arial"/>
                  </a:rPr>
                  <a:t>Glutam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3813120" y="1844640"/>
              <a:ext cx="1078920" cy="10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57480" y="2852640"/>
              <a:ext cx="64728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84400" y="3213000"/>
              <a:ext cx="79164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0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1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74312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10120" y="677880"/>
            <a:ext cx="66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Desaminación oxidativa del glutam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12000" y="3201840"/>
            <a:ext cx="719280" cy="865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71840" y="4229280"/>
            <a:ext cx="22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(+) ADP y GDP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(-) ATP y 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00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6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508" name="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50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0" name="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3492360" y="3862440"/>
            <a:ext cx="1150920" cy="244620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16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17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2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771640" y="711360"/>
            <a:ext cx="3552840" cy="5435280"/>
            <a:chOff x="2771640" y="711360"/>
            <a:chExt cx="3552840" cy="5435280"/>
          </a:xfrm>
        </p:grpSpPr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2819520" y="711360"/>
              <a:ext cx="3504960" cy="54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3132000" y="2060640"/>
              <a:ext cx="12956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Asparag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71640" y="4005360"/>
              <a:ext cx="1656000" cy="66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Aspartato aminotransferas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o G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28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29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4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536" name="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53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"/>
          <p:cNvSpPr/>
          <p:nvPr/>
        </p:nvSpPr>
        <p:spPr>
          <a:xfrm rot="20403000">
            <a:off x="4809960" y="1120680"/>
            <a:ext cx="2660760" cy="12938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44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45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0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552" name="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5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4" name="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116000" y="148428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116000" y="184464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24720" y="414972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"/>
          <p:cNvGrpSpPr/>
          <p:nvPr/>
        </p:nvGrpSpPr>
        <p:grpSpPr>
          <a:xfrm>
            <a:off x="1187280" y="620640"/>
            <a:ext cx="6552720" cy="5760720"/>
            <a:chOff x="1187280" y="620640"/>
            <a:chExt cx="6552720" cy="5760720"/>
          </a:xfrm>
        </p:grpSpPr>
        <p:grpSp>
          <p:nvGrpSpPr>
            <p:cNvPr id="563" name=""/>
            <p:cNvGrpSpPr/>
            <p:nvPr/>
          </p:nvGrpSpPr>
          <p:grpSpPr>
            <a:xfrm>
              <a:off x="1187280" y="620640"/>
              <a:ext cx="6552720" cy="5760720"/>
              <a:chOff x="1187280" y="620640"/>
              <a:chExt cx="6552720" cy="576072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1187280" y="620640"/>
                <a:ext cx="6552720" cy="5760360"/>
                <a:chOff x="1187280" y="620640"/>
                <a:chExt cx="6552720" cy="5760360"/>
              </a:xfrm>
            </p:grpSpPr>
            <p:pic>
              <p:nvPicPr>
                <p:cNvPr id="565" name="" descr=""/>
                <p:cNvPicPr/>
                <p:nvPr/>
              </p:nvPicPr>
              <p:blipFill>
                <a:blip r:embed="rId1"/>
                <a:srcRect l="35745" t="4789" r="0" b="12549"/>
                <a:stretch/>
              </p:blipFill>
              <p:spPr>
                <a:xfrm>
                  <a:off x="1270080" y="701280"/>
                  <a:ext cx="6469920" cy="567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6" name=""/>
                <p:cNvSpPr/>
                <p:nvPr/>
              </p:nvSpPr>
              <p:spPr>
                <a:xfrm>
                  <a:off x="1187280" y="620640"/>
                  <a:ext cx="3848040" cy="308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1270440" y="5894640"/>
                <a:ext cx="418680" cy="48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797720" y="2860200"/>
                <a:ext cx="669600" cy="40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69720" y="2567160"/>
                <a:ext cx="418680" cy="32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613040" y="5374080"/>
                <a:ext cx="1092240" cy="27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270440" y="2810520"/>
                <a:ext cx="2929680" cy="138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270440" y="3946320"/>
                <a:ext cx="2427480" cy="64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6009120" y="3144960"/>
              <a:ext cx="7138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 etap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75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76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1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5396760" y="1720800"/>
            <a:ext cx="8845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Fenilala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hidroxil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483600" y="1795320"/>
            <a:ext cx="268920" cy="41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142520" y="2779560"/>
            <a:ext cx="165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Transamin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Descarboxil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Oxid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Hidr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032280" y="4398840"/>
            <a:ext cx="806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Tioqui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5630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99"/>
                </a:solidFill>
                <a:latin typeface="Arial"/>
              </a:rPr>
              <a:t>AMINOACIDOS COMO PRECURSORES EN LA BIOSINTESIS DE AMINAS BIOLO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uchas de las aminas biológicas formadas por </a:t>
            </a:r>
            <a:r>
              <a:rPr b="0" lang="es-AR" sz="3200" spc="-1" strike="noStrike">
                <a:solidFill>
                  <a:srgbClr val="009999"/>
                </a:solidFill>
                <a:latin typeface="Arial"/>
              </a:rPr>
              <a:t>descarboxilación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de algunos aminoácidos son sustancias de importancia fu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ara este proceso de síntesis el organismo utiliza </a:t>
            </a:r>
            <a:r>
              <a:rPr b="1" lang="es-AR" sz="3200" spc="-1" strike="noStrike">
                <a:solidFill>
                  <a:srgbClr val="009999"/>
                </a:solidFill>
                <a:latin typeface="Arial"/>
              </a:rPr>
              <a:t>piridoxalfosfato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9999"/>
                </a:solidFill>
                <a:latin typeface="Arial"/>
              </a:rPr>
              <a:t>(PLP)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mo coenz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89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90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5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99"/>
                </a:solidFill>
                <a:latin typeface="Arial"/>
              </a:rPr>
              <a:t>AMINAS DE IMPORTANCIA B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istamina, Tiramina, Tripta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cido </a:t>
            </a:r>
            <a:r>
              <a:rPr b="1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-aminobutirico (</a:t>
            </a:r>
            <a:r>
              <a:rPr b="0" lang="es-AR" sz="3200" spc="-1" strike="noStrike">
                <a:solidFill>
                  <a:srgbClr val="009999"/>
                </a:solidFill>
                <a:latin typeface="Arial"/>
              </a:rPr>
              <a:t>GABA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atecolaminas (Dopamina, Noradrenalina  y Adrenal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ormonas Tiro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lat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erot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rea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99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5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8930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08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4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11280" y="1341360"/>
            <a:ext cx="2158920" cy="1268640"/>
            <a:chOff x="611280" y="1341360"/>
            <a:chExt cx="2158920" cy="1268640"/>
          </a:xfrm>
        </p:grpSpPr>
        <p:pic>
          <p:nvPicPr>
            <p:cNvPr id="616" name="" descr=""/>
            <p:cNvPicPr/>
            <p:nvPr/>
          </p:nvPicPr>
          <p:blipFill>
            <a:blip r:embed="rId2"/>
            <a:stretch/>
          </p:blipFill>
          <p:spPr>
            <a:xfrm>
              <a:off x="611280" y="1341360"/>
              <a:ext cx="215892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1620360" y="213372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Histid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6392880" y="1484280"/>
            <a:ext cx="2137680" cy="1020600"/>
            <a:chOff x="6392880" y="1484280"/>
            <a:chExt cx="2137680" cy="1020600"/>
          </a:xfrm>
        </p:grpSpPr>
        <p:pic>
          <p:nvPicPr>
            <p:cNvPr id="619" name="" descr=""/>
            <p:cNvPicPr/>
            <p:nvPr/>
          </p:nvPicPr>
          <p:blipFill>
            <a:blip r:embed="rId3"/>
            <a:stretch/>
          </p:blipFill>
          <p:spPr>
            <a:xfrm>
              <a:off x="6392880" y="1484280"/>
              <a:ext cx="2131920" cy="10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7258680" y="199368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His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3996000" y="4005360"/>
            <a:ext cx="1829160" cy="1009080"/>
            <a:chOff x="3996000" y="4005360"/>
            <a:chExt cx="1829160" cy="1009080"/>
          </a:xfrm>
        </p:grpSpPr>
        <p:sp>
          <p:nvSpPr>
            <p:cNvPr id="622" name=""/>
            <p:cNvSpPr/>
            <p:nvPr/>
          </p:nvSpPr>
          <p:spPr>
            <a:xfrm>
              <a:off x="3996000" y="4005360"/>
              <a:ext cx="144072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228280" y="4502160"/>
              <a:ext cx="59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6372360" y="2565360"/>
            <a:ext cx="2328840" cy="1014120"/>
            <a:chOff x="6372360" y="2565360"/>
            <a:chExt cx="2328840" cy="1014120"/>
          </a:xfrm>
        </p:grpSpPr>
        <p:pic>
          <p:nvPicPr>
            <p:cNvPr id="625" name="" descr=""/>
            <p:cNvPicPr/>
            <p:nvPr/>
          </p:nvPicPr>
          <p:blipFill>
            <a:blip r:embed="rId4"/>
            <a:stretch/>
          </p:blipFill>
          <p:spPr>
            <a:xfrm>
              <a:off x="6372360" y="2565360"/>
              <a:ext cx="232884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7381800" y="321120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ir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372360" y="3789360"/>
            <a:ext cx="2430360" cy="955800"/>
            <a:chOff x="6372360" y="3789360"/>
            <a:chExt cx="2430360" cy="955800"/>
          </a:xfrm>
        </p:grpSpPr>
        <p:pic>
          <p:nvPicPr>
            <p:cNvPr id="628" name="" descr=""/>
            <p:cNvPicPr/>
            <p:nvPr/>
          </p:nvPicPr>
          <p:blipFill>
            <a:blip r:embed="rId5"/>
            <a:stretch/>
          </p:blipFill>
          <p:spPr>
            <a:xfrm>
              <a:off x="6372360" y="3789360"/>
              <a:ext cx="23367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7453080" y="422136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rip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096920" y="4933800"/>
            <a:ext cx="1312920" cy="1737000"/>
            <a:chOff x="1096920" y="4933800"/>
            <a:chExt cx="1312920" cy="1737000"/>
          </a:xfrm>
        </p:grpSpPr>
        <p:pic>
          <p:nvPicPr>
            <p:cNvPr id="631" name="" descr=""/>
            <p:cNvPicPr/>
            <p:nvPr/>
          </p:nvPicPr>
          <p:blipFill>
            <a:blip r:embed="rId6"/>
            <a:stretch/>
          </p:blipFill>
          <p:spPr>
            <a:xfrm>
              <a:off x="1096920" y="4933800"/>
              <a:ext cx="109368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1098360" y="630252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6737400" y="4941720"/>
            <a:ext cx="1504080" cy="1297080"/>
            <a:chOff x="6737400" y="4941720"/>
            <a:chExt cx="1504080" cy="1297080"/>
          </a:xfrm>
        </p:grpSpPr>
        <p:pic>
          <p:nvPicPr>
            <p:cNvPr id="634" name="" descr=""/>
            <p:cNvPicPr/>
            <p:nvPr/>
          </p:nvPicPr>
          <p:blipFill>
            <a:blip r:embed="rId7"/>
            <a:stretch/>
          </p:blipFill>
          <p:spPr>
            <a:xfrm>
              <a:off x="6737400" y="4941720"/>
              <a:ext cx="8827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7388640" y="54468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GA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611280" y="3711600"/>
            <a:ext cx="2394360" cy="1231920"/>
            <a:chOff x="611280" y="3711600"/>
            <a:chExt cx="2394360" cy="1231920"/>
          </a:xfrm>
        </p:grpSpPr>
        <p:pic>
          <p:nvPicPr>
            <p:cNvPr id="637" name="" descr=""/>
            <p:cNvPicPr/>
            <p:nvPr/>
          </p:nvPicPr>
          <p:blipFill>
            <a:blip r:embed="rId8"/>
            <a:srcRect l="0" t="0" r="0" b="18771"/>
            <a:stretch/>
          </p:blipFill>
          <p:spPr>
            <a:xfrm>
              <a:off x="611280" y="3711600"/>
              <a:ext cx="198720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1692720" y="4575240"/>
              <a:ext cx="13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riptof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57040" y="2637000"/>
            <a:ext cx="2800440" cy="1087200"/>
            <a:chOff x="257040" y="2637000"/>
            <a:chExt cx="2800440" cy="1087200"/>
          </a:xfrm>
        </p:grpSpPr>
        <p:grpSp>
          <p:nvGrpSpPr>
            <p:cNvPr id="640" name=""/>
            <p:cNvGrpSpPr/>
            <p:nvPr/>
          </p:nvGrpSpPr>
          <p:grpSpPr>
            <a:xfrm>
              <a:off x="257040" y="2637000"/>
              <a:ext cx="2328840" cy="865080"/>
              <a:chOff x="257040" y="2637000"/>
              <a:chExt cx="2328840" cy="865080"/>
            </a:xfrm>
          </p:grpSpPr>
          <p:pic>
            <p:nvPicPr>
              <p:cNvPr id="64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7040" y="2709720"/>
                <a:ext cx="2328840" cy="78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2" name="" descr=""/>
              <p:cNvPicPr/>
              <p:nvPr/>
            </p:nvPicPr>
            <p:blipFill>
              <a:blip r:embed="rId10"/>
              <a:srcRect l="72719" t="-4332" r="-3855" b="42985"/>
              <a:stretch/>
            </p:blipFill>
            <p:spPr>
              <a:xfrm>
                <a:off x="1696680" y="2637000"/>
                <a:ext cx="64944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3" name=""/>
              <p:cNvSpPr/>
              <p:nvPr/>
            </p:nvSpPr>
            <p:spPr>
              <a:xfrm>
                <a:off x="2201400" y="2925720"/>
                <a:ext cx="28764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1986840" y="335592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Tiro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2843280" y="1341360"/>
            <a:ext cx="3168720" cy="5327640"/>
            <a:chOff x="2843280" y="1341360"/>
            <a:chExt cx="3168720" cy="5327640"/>
          </a:xfrm>
        </p:grpSpPr>
        <p:grpSp>
          <p:nvGrpSpPr>
            <p:cNvPr id="646" name=""/>
            <p:cNvGrpSpPr/>
            <p:nvPr/>
          </p:nvGrpSpPr>
          <p:grpSpPr>
            <a:xfrm>
              <a:off x="3492360" y="3567240"/>
              <a:ext cx="2519640" cy="877680"/>
              <a:chOff x="3492360" y="3567240"/>
              <a:chExt cx="2519640" cy="877680"/>
            </a:xfrm>
          </p:grpSpPr>
          <p:sp>
            <p:nvSpPr>
              <p:cNvPr id="647" name=""/>
              <p:cNvSpPr/>
              <p:nvPr/>
            </p:nvSpPr>
            <p:spPr>
              <a:xfrm>
                <a:off x="3492360" y="4005360"/>
                <a:ext cx="25196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711600" y="3567240"/>
                <a:ext cx="185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3333cc"/>
                    </a:solidFill>
                    <a:latin typeface="Arial"/>
                  </a:rPr>
                  <a:t>Descarboxil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141800" y="4076640"/>
                <a:ext cx="77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Arial"/>
                  </a:rPr>
                  <a:t>(PLP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2843280" y="1341360"/>
              <a:ext cx="504720" cy="5327640"/>
            </a:xfrm>
            <a:custGeom>
              <a:avLst/>
              <a:gdLst>
                <a:gd name="textAreaLeft" fmla="*/ 0 w 504720"/>
                <a:gd name="textAreaRight" fmla="*/ 182160 w 504720"/>
                <a:gd name="textAreaTop" fmla="*/ 138600 h 5327640"/>
                <a:gd name="textAreaBottom" fmla="*/ 5189040 h 532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"/>
          <p:cNvSpPr/>
          <p:nvPr/>
        </p:nvSpPr>
        <p:spPr>
          <a:xfrm flipH="1">
            <a:off x="6084720" y="1341360"/>
            <a:ext cx="503280" cy="5327640"/>
          </a:xfrm>
          <a:custGeom>
            <a:avLst/>
            <a:gdLst>
              <a:gd name="textAreaLeft" fmla="*/ 360 w 503280"/>
              <a:gd name="textAreaRight" fmla="*/ 182160 w 503280"/>
              <a:gd name="textAreaTop" fmla="*/ 138600 h 5327640"/>
              <a:gd name="textAreaBottom" fmla="*/ 5189040 h 532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124000" y="162864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619280" y="314172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79640" y="422100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476360" y="609300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8930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58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59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4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1246320" y="1413000"/>
            <a:ext cx="6649920" cy="504036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6443640" y="3500280"/>
            <a:ext cx="1008000" cy="360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13200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08472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L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histamin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posee acción vasodilatadora, disminuye la presión sanguínea, colabora en la constricción de los bronquiolos, estimula la producción de HCl y estimula la pepsina en es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mago, se libera bruscamente en respuesta  al ingreso de sustancias alérgenas en los tej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Tiramina y triptamin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son sustancias vasoconstrictora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El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Acido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γ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-aminobu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rico (GABA)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es un compuesto funcionalmente muy importante, ya que es un intermediario químico  regulador de la actividad neuronal, actuando como inhibidor o depresor de la transmisión del impulso nervi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Las catecolamina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 Dopamina, Noradrenalina y Adrenalin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se producen en el sistema nervioso y en la medula adrenal. Son vasoconstrictores en algunos tejidos y vasodilatadores en otros, aumentan la frecuencia cardíaca, son relajantes del músculo bronquial, estimulan la glucógenolisis en músculo y la lipólisis en tejido adip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71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72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7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2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3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57200" y="692280"/>
            <a:ext cx="82296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Desaminación oxidativa por </a:t>
            </a:r>
            <a:br>
              <a:rPr sz="2800"/>
            </a:br>
            <a:r>
              <a:rPr b="1" i="1" lang="es-E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aminoácido oxidasas</a:t>
            </a:r>
            <a:r>
              <a:rPr b="1" lang="es-E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 peroxisomales</a:t>
            </a:r>
            <a:r>
              <a:rPr b="0" lang="es-ES" sz="2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1773360"/>
            <a:ext cx="719280" cy="8650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77080" y="3500280"/>
            <a:ext cx="719280" cy="865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50920" y="3502080"/>
            <a:ext cx="8748720" cy="1424880"/>
            <a:chOff x="250920" y="3502080"/>
            <a:chExt cx="8748720" cy="1424880"/>
          </a:xfrm>
        </p:grpSpPr>
        <p:sp>
          <p:nvSpPr>
            <p:cNvPr id="83" name=""/>
            <p:cNvSpPr/>
            <p:nvPr/>
          </p:nvSpPr>
          <p:spPr>
            <a:xfrm>
              <a:off x="250920" y="3789360"/>
              <a:ext cx="3671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D-aminoácido + 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 E-F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00" y="4473720"/>
              <a:ext cx="2232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AD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+  O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78160" y="3502080"/>
              <a:ext cx="2606760" cy="431640"/>
              <a:chOff x="3278160" y="3502080"/>
              <a:chExt cx="2606760" cy="431640"/>
            </a:xfrm>
          </p:grpSpPr>
          <p:sp>
            <p:nvSpPr>
              <p:cNvPr id="86" name=""/>
              <p:cNvSpPr/>
              <p:nvPr/>
            </p:nvSpPr>
            <p:spPr>
              <a:xfrm>
                <a:off x="3997440" y="3933720"/>
                <a:ext cx="107928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278160" y="3502080"/>
                <a:ext cx="260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ff00"/>
                    </a:solidFill>
                    <a:latin typeface="Arial"/>
                  </a:rPr>
                  <a:t>D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3260520" y="4216320"/>
              <a:ext cx="2606760" cy="438120"/>
              <a:chOff x="3260520" y="4216320"/>
              <a:chExt cx="2606760" cy="438120"/>
            </a:xfrm>
          </p:grpSpPr>
          <p:sp>
            <p:nvSpPr>
              <p:cNvPr id="89" name=""/>
              <p:cNvSpPr/>
              <p:nvPr/>
            </p:nvSpPr>
            <p:spPr>
              <a:xfrm>
                <a:off x="3868560" y="4654440"/>
                <a:ext cx="144792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60520" y="4216320"/>
                <a:ext cx="260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ff00"/>
                    </a:solidFill>
                    <a:latin typeface="Arial"/>
                  </a:rPr>
                  <a:t>D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5437080" y="4473720"/>
              <a:ext cx="2664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AD  +  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19640" y="3716280"/>
              <a:ext cx="3780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Symbol"/>
                  <a:ea typeface="Symbol"/>
                </a:rPr>
                <a:t>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-cetoácido + 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4</a:t>
              </a:r>
              <a:r>
                <a:rPr b="0" lang="es-ES_tradnl" sz="2000" spc="-1" strike="noStrike" baseline="30000">
                  <a:solidFill>
                    <a:srgbClr val="006699"/>
                  </a:solidFill>
                  <a:latin typeface="Arial"/>
                  <a:ea typeface="Times New Roman"/>
                </a:rPr>
                <a:t>+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+ E-FAD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50920" y="1844640"/>
            <a:ext cx="8748720" cy="1504080"/>
            <a:chOff x="250920" y="1844640"/>
            <a:chExt cx="8748720" cy="1504080"/>
          </a:xfrm>
        </p:grpSpPr>
        <p:grpSp>
          <p:nvGrpSpPr>
            <p:cNvPr id="94" name=""/>
            <p:cNvGrpSpPr/>
            <p:nvPr/>
          </p:nvGrpSpPr>
          <p:grpSpPr>
            <a:xfrm>
              <a:off x="3277440" y="1844640"/>
              <a:ext cx="2582640" cy="438120"/>
              <a:chOff x="3277440" y="1844640"/>
              <a:chExt cx="2582640" cy="438120"/>
            </a:xfrm>
          </p:grpSpPr>
          <p:sp>
            <p:nvSpPr>
              <p:cNvPr id="95" name=""/>
              <p:cNvSpPr/>
              <p:nvPr/>
            </p:nvSpPr>
            <p:spPr>
              <a:xfrm>
                <a:off x="3995640" y="2282760"/>
                <a:ext cx="100800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277440" y="1844640"/>
                <a:ext cx="258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6600"/>
                    </a:solidFill>
                    <a:latin typeface="Arial"/>
                  </a:rPr>
                  <a:t>L-aminoácido</a:t>
                </a:r>
                <a:r>
                  <a:rPr b="1" i="1" lang="en-US" sz="1800" spc="-1" strike="noStrike">
                    <a:solidFill>
                      <a:srgbClr val="ff7c80"/>
                    </a:solidFill>
                    <a:latin typeface="Arial"/>
                  </a:rPr>
                  <a:t> </a:t>
                </a:r>
                <a:r>
                  <a:rPr b="1" i="1" lang="en-US" sz="1800" spc="-1" strike="noStrike">
                    <a:solidFill>
                      <a:srgbClr val="ff6600"/>
                    </a:solidFill>
                    <a:latin typeface="Arial"/>
                  </a:rPr>
                  <a:t>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3212280" y="2673360"/>
              <a:ext cx="2582640" cy="438120"/>
              <a:chOff x="3212280" y="2673360"/>
              <a:chExt cx="2582640" cy="438120"/>
            </a:xfrm>
          </p:grpSpPr>
          <p:sp>
            <p:nvSpPr>
              <p:cNvPr id="98" name=""/>
              <p:cNvSpPr/>
              <p:nvPr/>
            </p:nvSpPr>
            <p:spPr>
              <a:xfrm>
                <a:off x="3817800" y="3111480"/>
                <a:ext cx="148284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212280" y="2673360"/>
                <a:ext cx="258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6600"/>
                    </a:solidFill>
                    <a:latin typeface="Arial"/>
                  </a:rPr>
                  <a:t>L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1116000" y="2857680"/>
              <a:ext cx="2232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M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+  O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35640" y="2895480"/>
              <a:ext cx="2663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MN  +  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920" y="2066760"/>
              <a:ext cx="3671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L-aminoácido + 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 E-FMN</a:t>
              </a:r>
              <a:r>
                <a:rPr b="0" lang="es-ES_tradnl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19640" y="2066760"/>
              <a:ext cx="3780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Symbol"/>
                  <a:ea typeface="Symbol"/>
                </a:rPr>
                <a:t>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-cetoácido + 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4</a:t>
              </a:r>
              <a:r>
                <a:rPr b="0" lang="es-ES_tradnl" sz="2000" spc="-1" strike="noStrike" baseline="30000">
                  <a:solidFill>
                    <a:srgbClr val="006699"/>
                  </a:solidFill>
                  <a:latin typeface="Arial"/>
                  <a:ea typeface="Times New Roman"/>
                </a:rPr>
                <a:t>+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+ E-FM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35280" y="5084640"/>
            <a:ext cx="5614920" cy="675360"/>
            <a:chOff x="1835280" y="5084640"/>
            <a:chExt cx="5614920" cy="675360"/>
          </a:xfrm>
        </p:grpSpPr>
        <p:sp>
          <p:nvSpPr>
            <p:cNvPr id="105" name=""/>
            <p:cNvSpPr/>
            <p:nvPr/>
          </p:nvSpPr>
          <p:spPr>
            <a:xfrm>
              <a:off x="1835280" y="5235480"/>
              <a:ext cx="194328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2 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07280" y="5306760"/>
              <a:ext cx="194292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2 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O</a:t>
              </a:r>
              <a:r>
                <a:rPr b="1" lang="es-ES_tradnl" sz="2000" spc="-1" strike="noStrike" baseline="-25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86280" y="5522760"/>
              <a:ext cx="144792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25880" y="50846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ff"/>
                  </a:solidFill>
                  <a:latin typeface="Arial"/>
                </a:rPr>
                <a:t>Cata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468360" y="708120"/>
            <a:ext cx="8064360" cy="6033960"/>
            <a:chOff x="468360" y="708120"/>
            <a:chExt cx="8064360" cy="6033960"/>
          </a:xfrm>
        </p:grpSpPr>
        <p:pic>
          <p:nvPicPr>
            <p:cNvPr id="679" name="" descr=""/>
            <p:cNvPicPr/>
            <p:nvPr/>
          </p:nvPicPr>
          <p:blipFill>
            <a:blip r:embed="rId1"/>
            <a:stretch/>
          </p:blipFill>
          <p:spPr>
            <a:xfrm>
              <a:off x="487440" y="708120"/>
              <a:ext cx="8045280" cy="60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468360" y="765360"/>
              <a:ext cx="8064360" cy="875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Qu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é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pas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ó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con el metabolismo del NH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y aminoácidos en las plantas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82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83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8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976760" y="73980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ijación del Nitrógeno en las p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611280" y="1413000"/>
            <a:ext cx="8208360" cy="5184360"/>
            <a:chOff x="611280" y="1413000"/>
            <a:chExt cx="8208360" cy="5184360"/>
          </a:xfrm>
        </p:grpSpPr>
        <p:grpSp>
          <p:nvGrpSpPr>
            <p:cNvPr id="691" name=""/>
            <p:cNvGrpSpPr/>
            <p:nvPr/>
          </p:nvGrpSpPr>
          <p:grpSpPr>
            <a:xfrm>
              <a:off x="611280" y="1413000"/>
              <a:ext cx="8208360" cy="5184360"/>
              <a:chOff x="611280" y="1413000"/>
              <a:chExt cx="8208360" cy="5184360"/>
            </a:xfrm>
          </p:grpSpPr>
          <p:pic>
            <p:nvPicPr>
              <p:cNvPr id="6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413000"/>
                <a:ext cx="8208360" cy="51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"/>
              <p:cNvSpPr/>
              <p:nvPr/>
            </p:nvSpPr>
            <p:spPr>
              <a:xfrm>
                <a:off x="7208640" y="4569840"/>
                <a:ext cx="375480" cy="24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cc"/>
                    </a:solidFill>
                    <a:latin typeface="Arial"/>
                  </a:rPr>
                  <a:t>NH</a:t>
                </a:r>
                <a:r>
                  <a:rPr b="1" lang="en-US" sz="1400" spc="-1" strike="noStrike" baseline="-25000">
                    <a:solidFill>
                      <a:srgbClr val="0033cc"/>
                    </a:solidFill>
                    <a:latin typeface="Arial"/>
                  </a:rPr>
                  <a:t>4</a:t>
                </a:r>
                <a:r>
                  <a:rPr b="1" lang="en-US" sz="1400" spc="-1" strike="noStrike" baseline="30000">
                    <a:solidFill>
                      <a:srgbClr val="0033cc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7017120" y="4270320"/>
              <a:ext cx="10296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Nitroge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638160" y="3573360"/>
              <a:ext cx="811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7093080" y="4437000"/>
            <a:ext cx="647640" cy="57636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98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99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4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03920" y="519120"/>
            <a:ext cx="694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lantas que no pueden fijar N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(mayoría de los cultivos excepto legumino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438560" y="1460520"/>
            <a:ext cx="578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entes importantes de nitrógeno: 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y 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24720" y="2133720"/>
            <a:ext cx="8638200" cy="4609800"/>
            <a:chOff x="324720" y="2133720"/>
            <a:chExt cx="8638200" cy="4609800"/>
          </a:xfrm>
        </p:grpSpPr>
        <p:sp>
          <p:nvSpPr>
            <p:cNvPr id="708" name=""/>
            <p:cNvSpPr/>
            <p:nvPr/>
          </p:nvSpPr>
          <p:spPr>
            <a:xfrm>
              <a:off x="2062440" y="2548080"/>
              <a:ext cx="79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5316840" y="2529000"/>
              <a:ext cx="1911240" cy="510120"/>
              <a:chOff x="5316840" y="2529000"/>
              <a:chExt cx="1911240" cy="510120"/>
            </a:xfrm>
          </p:grpSpPr>
          <p:sp>
            <p:nvSpPr>
              <p:cNvPr id="710" name=""/>
              <p:cNvSpPr/>
              <p:nvPr/>
            </p:nvSpPr>
            <p:spPr>
              <a:xfrm>
                <a:off x="5316840" y="2529000"/>
                <a:ext cx="79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227640" y="2529000"/>
                <a:ext cx="1000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+ 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2644920" y="2449440"/>
              <a:ext cx="2580840" cy="1159920"/>
              <a:chOff x="2644920" y="2449440"/>
              <a:chExt cx="2580840" cy="1159920"/>
            </a:xfrm>
          </p:grpSpPr>
          <p:grpSp>
            <p:nvGrpSpPr>
              <p:cNvPr id="713" name=""/>
              <p:cNvGrpSpPr/>
              <p:nvPr/>
            </p:nvGrpSpPr>
            <p:grpSpPr>
              <a:xfrm>
                <a:off x="3070800" y="2889360"/>
                <a:ext cx="2089080" cy="720000"/>
                <a:chOff x="3070800" y="2889360"/>
                <a:chExt cx="2089080" cy="720000"/>
              </a:xfrm>
            </p:grpSpPr>
            <p:sp>
              <p:nvSpPr>
                <p:cNvPr id="714" name=""/>
                <p:cNvSpPr/>
                <p:nvPr/>
              </p:nvSpPr>
              <p:spPr>
                <a:xfrm flipH="1" rot="5400000">
                  <a:off x="3716280" y="2528280"/>
                  <a:ext cx="720000" cy="144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378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378503"/>
                    </a:path>
                  </a:pathLst>
                </a:custGeom>
                <a:noFill/>
                <a:ln w="44280">
                  <a:solidFill>
                    <a:srgbClr val="0000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3070800" y="2889360"/>
                  <a:ext cx="2089080" cy="0"/>
                </a:xfrm>
                <a:prstGeom prst="line">
                  <a:avLst/>
                </a:prstGeom>
                <a:ln w="4752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6" name=""/>
              <p:cNvSpPr/>
              <p:nvPr/>
            </p:nvSpPr>
            <p:spPr>
              <a:xfrm>
                <a:off x="2644920" y="3176640"/>
                <a:ext cx="1479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ADH + 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404960" y="317664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074400" y="2449440"/>
                <a:ext cx="205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Nitrato reduct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408240" y="4772160"/>
              <a:ext cx="79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202400" y="4772160"/>
              <a:ext cx="201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3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 + 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3274920" y="4575240"/>
              <a:ext cx="2309760" cy="1080720"/>
              <a:chOff x="3274920" y="4575240"/>
              <a:chExt cx="2309760" cy="1080720"/>
            </a:xfrm>
          </p:grpSpPr>
          <p:sp>
            <p:nvSpPr>
              <p:cNvPr id="722" name=""/>
              <p:cNvSpPr/>
              <p:nvPr/>
            </p:nvSpPr>
            <p:spPr>
              <a:xfrm>
                <a:off x="3274920" y="5013360"/>
                <a:ext cx="2309760" cy="1440"/>
              </a:xfrm>
              <a:prstGeom prst="line">
                <a:avLst/>
              </a:prstGeom>
              <a:ln w="475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277080" y="4575240"/>
                <a:ext cx="199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Nitrito reduct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572280" y="5013360"/>
                <a:ext cx="1488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9900"/>
                    </a:solidFill>
                    <a:latin typeface="Arial"/>
                  </a:rPr>
                  <a:t>LU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9900"/>
                    </a:solidFill>
                    <a:latin typeface="Arial"/>
                  </a:rPr>
                  <a:t>Ferredox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>
              <a:off x="5580000" y="4772160"/>
              <a:ext cx="3382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 + 1.5 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5195880" y="5380200"/>
              <a:ext cx="1895400" cy="1363320"/>
              <a:chOff x="5195880" y="5380200"/>
              <a:chExt cx="1895400" cy="1363320"/>
            </a:xfrm>
          </p:grpSpPr>
          <p:sp>
            <p:nvSpPr>
              <p:cNvPr id="727" name=""/>
              <p:cNvSpPr/>
              <p:nvPr/>
            </p:nvSpPr>
            <p:spPr>
              <a:xfrm>
                <a:off x="6084720" y="5380200"/>
                <a:ext cx="0" cy="649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195880" y="6100920"/>
                <a:ext cx="1895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AMINOACIDO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PROTEIN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324720" y="21337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Citos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94200" y="5950080"/>
              <a:ext cx="461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Cloroplastos o Protoplastid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1042920" y="2349360"/>
              <a:ext cx="5041800" cy="2374920"/>
              <a:chOff x="1042920" y="2349360"/>
              <a:chExt cx="5041800" cy="2374920"/>
            </a:xfrm>
          </p:grpSpPr>
          <p:sp>
            <p:nvSpPr>
              <p:cNvPr id="732" name=""/>
              <p:cNvSpPr/>
              <p:nvPr/>
            </p:nvSpPr>
            <p:spPr>
              <a:xfrm>
                <a:off x="5292720" y="2349360"/>
                <a:ext cx="792000" cy="863640"/>
              </a:xfrm>
              <a:prstGeom prst="ellipse">
                <a:avLst/>
              </a:prstGeom>
              <a:noFill/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1042920" y="3213000"/>
                <a:ext cx="4681440" cy="1511280"/>
              </a:xfrm>
              <a:prstGeom prst="line">
                <a:avLst/>
              </a:prstGeom>
              <a:ln w="442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179280" y="3645000"/>
            <a:ext cx="8893440" cy="431640"/>
            <a:chOff x="179280" y="3645000"/>
            <a:chExt cx="8893440" cy="431640"/>
          </a:xfrm>
        </p:grpSpPr>
        <p:sp>
          <p:nvSpPr>
            <p:cNvPr id="735" name=""/>
            <p:cNvSpPr/>
            <p:nvPr/>
          </p:nvSpPr>
          <p:spPr>
            <a:xfrm>
              <a:off x="179280" y="3860640"/>
              <a:ext cx="889344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64000" y="3645000"/>
              <a:ext cx="287280" cy="431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38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39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4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324000" y="544680"/>
            <a:ext cx="8351640" cy="6053040"/>
          </a:xfrm>
          <a:prstGeom prst="rect">
            <a:avLst/>
          </a:prstGeom>
          <a:ln w="0">
            <a:noFill/>
          </a:ln>
        </p:spPr>
      </p:pic>
      <p:grpSp>
        <p:nvGrpSpPr>
          <p:cNvPr id="746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47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48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3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755640" y="3933720"/>
            <a:ext cx="503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641680" y="3645000"/>
            <a:ext cx="116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Glutam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sinte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511600" y="3803760"/>
            <a:ext cx="100044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Glutam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908960" y="4581360"/>
            <a:ext cx="1645200" cy="97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Ferredoxina 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(cloroplas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Arial"/>
              </a:rPr>
              <a:t>NADH o NADP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Arial"/>
              </a:rPr>
              <a:t>(protoplas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665800" y="2076480"/>
            <a:ext cx="1104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Asparag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sinte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7164360" y="2747880"/>
            <a:ext cx="2017800" cy="1041120"/>
            <a:chOff x="7164360" y="2747880"/>
            <a:chExt cx="2017800" cy="1041120"/>
          </a:xfrm>
        </p:grpSpPr>
        <p:sp>
          <p:nvSpPr>
            <p:cNvPr id="760" name=""/>
            <p:cNvSpPr/>
            <p:nvPr/>
          </p:nvSpPr>
          <p:spPr>
            <a:xfrm flipV="1">
              <a:off x="7164360" y="3357360"/>
              <a:ext cx="3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559640" y="2747880"/>
              <a:ext cx="1622520" cy="824040"/>
            </a:xfrm>
            <a:prstGeom prst="rect">
              <a:avLst/>
            </a:prstGeom>
            <a:solidFill>
              <a:srgbClr val="ffcc00">
                <a:alpha val="29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Proteí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Clorofi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Acs. Nucle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4960080" y="1413000"/>
            <a:ext cx="168948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Aspar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aminotransf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435640" y="620640"/>
            <a:ext cx="15796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PEP carboxil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067280" y="3645000"/>
            <a:ext cx="865080" cy="2089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403280" y="981000"/>
            <a:ext cx="865080" cy="2089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08200" y="6093000"/>
            <a:ext cx="80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Arial"/>
              </a:rPr>
              <a:t>Glutamina y Asparagina son las amidas vegetales, importantes para acumular nitrógeno, principalmente en órganos de almacen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560560" y="191628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L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"/>
          <p:cNvGrpSpPr/>
          <p:nvPr/>
        </p:nvGrpSpPr>
        <p:grpSpPr>
          <a:xfrm>
            <a:off x="324000" y="1352160"/>
            <a:ext cx="8496000" cy="4812840"/>
            <a:chOff x="324000" y="1352160"/>
            <a:chExt cx="8496000" cy="4812840"/>
          </a:xfrm>
        </p:grpSpPr>
        <p:pic>
          <p:nvPicPr>
            <p:cNvPr id="769" name="" descr=""/>
            <p:cNvPicPr/>
            <p:nvPr/>
          </p:nvPicPr>
          <p:blipFill>
            <a:blip r:embed="rId1"/>
            <a:stretch/>
          </p:blipFill>
          <p:spPr>
            <a:xfrm rot="10800000">
              <a:off x="324000" y="1351800"/>
              <a:ext cx="8496000" cy="48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flipH="1">
              <a:off x="1692360" y="5009040"/>
              <a:ext cx="7128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72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73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8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445320" y="566640"/>
            <a:ext cx="85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Arial"/>
              </a:rPr>
              <a:t>Ciclo fotorrespiratorio del Nitróg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Arial"/>
              </a:rPr>
              <a:t>Interacción del metabolismo de CH y de AAs en una ho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900000" y="4221000"/>
            <a:ext cx="1943280" cy="17290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1979640" y="5805360"/>
            <a:ext cx="2123640" cy="433440"/>
            <a:chOff x="1979640" y="5805360"/>
            <a:chExt cx="2123640" cy="433440"/>
          </a:xfrm>
        </p:grpSpPr>
        <p:sp>
          <p:nvSpPr>
            <p:cNvPr id="782" name=""/>
            <p:cNvSpPr/>
            <p:nvPr/>
          </p:nvSpPr>
          <p:spPr>
            <a:xfrm flipH="1" flipV="1">
              <a:off x="1979640" y="5805360"/>
              <a:ext cx="1225440" cy="216000"/>
            </a:xfrm>
            <a:prstGeom prst="line">
              <a:avLst/>
            </a:prstGeom>
            <a:ln w="4140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186360" y="5870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Xi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681480" y="3573360"/>
            <a:ext cx="8312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Fosfa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76720" y="4005360"/>
            <a:ext cx="15825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ff"/>
                </a:solidFill>
                <a:latin typeface="Arial"/>
              </a:rPr>
              <a:t>Glicolato oxid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282200" y="3284640"/>
            <a:ext cx="7336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Cata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117440" y="1816200"/>
            <a:ext cx="11253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Cloropla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851640" y="1671480"/>
            <a:ext cx="1149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Peroxis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518520" y="2637000"/>
            <a:ext cx="1148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Mitoc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003000" y="5084640"/>
            <a:ext cx="26280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ff"/>
                </a:solidFill>
                <a:latin typeface="Arial"/>
              </a:rPr>
              <a:t>5- Glu-Gliox. Aminotransf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ff"/>
                </a:solidFill>
                <a:latin typeface="Arial"/>
              </a:rPr>
              <a:t>6- Ser-Gliox. Aminotransf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ff"/>
                </a:solidFill>
                <a:latin typeface="Arial"/>
              </a:rPr>
              <a:t>7- Gli descarboxi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ff"/>
                </a:solidFill>
                <a:latin typeface="Arial"/>
              </a:rPr>
              <a:t>8- Ser HO-metiltransf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ff"/>
                </a:solidFill>
                <a:latin typeface="Arial"/>
              </a:rPr>
              <a:t>9- HOpiruvato 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995640" y="2133720"/>
            <a:ext cx="404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M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741320" y="2924280"/>
            <a:ext cx="2383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G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39640" y="2781360"/>
            <a:ext cx="432000" cy="287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971640" y="4221000"/>
            <a:ext cx="1944720" cy="2016360"/>
            <a:chOff x="971640" y="4221000"/>
            <a:chExt cx="1944720" cy="2016360"/>
          </a:xfrm>
        </p:grpSpPr>
        <p:sp>
          <p:nvSpPr>
            <p:cNvPr id="795" name=""/>
            <p:cNvSpPr/>
            <p:nvPr/>
          </p:nvSpPr>
          <p:spPr>
            <a:xfrm>
              <a:off x="971640" y="4365720"/>
              <a:ext cx="1944720" cy="1871640"/>
            </a:xfrm>
            <a:prstGeom prst="line">
              <a:avLst/>
            </a:prstGeom>
            <a:ln w="9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1042920" y="4221000"/>
              <a:ext cx="1657440" cy="1800360"/>
            </a:xfrm>
            <a:prstGeom prst="line">
              <a:avLst/>
            </a:prstGeom>
            <a:ln w="9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7342200" y="3645000"/>
            <a:ext cx="672120" cy="433440"/>
            <a:chOff x="7342200" y="3645000"/>
            <a:chExt cx="672120" cy="433440"/>
          </a:xfrm>
        </p:grpSpPr>
        <p:sp>
          <p:nvSpPr>
            <p:cNvPr id="798" name=""/>
            <p:cNvSpPr/>
            <p:nvPr/>
          </p:nvSpPr>
          <p:spPr>
            <a:xfrm>
              <a:off x="7406640" y="3689280"/>
              <a:ext cx="60768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7342200" y="3645000"/>
              <a:ext cx="0" cy="433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0" dur="2000" fill="hold"/>
                                        <p:tgtEl>
                                          <p:spTgt spid="7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539640" y="3554280"/>
            <a:ext cx="3094200" cy="297036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324000" y="711360"/>
            <a:ext cx="3737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íntesis de 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en plantas se sintetizan tod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lusive los esen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11280" y="4365720"/>
            <a:ext cx="21600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32000" y="4365720"/>
            <a:ext cx="216000" cy="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4356000" y="492120"/>
            <a:ext cx="3745080" cy="6249960"/>
            <a:chOff x="4356000" y="492120"/>
            <a:chExt cx="3745080" cy="6249960"/>
          </a:xfrm>
        </p:grpSpPr>
        <p:pic>
          <p:nvPicPr>
            <p:cNvPr id="805" name="" descr=""/>
            <p:cNvPicPr/>
            <p:nvPr/>
          </p:nvPicPr>
          <p:blipFill>
            <a:blip r:embed="rId2"/>
            <a:stretch/>
          </p:blipFill>
          <p:spPr>
            <a:xfrm>
              <a:off x="4572000" y="492120"/>
              <a:ext cx="3328920" cy="62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"/>
            <p:cNvSpPr/>
            <p:nvPr/>
          </p:nvSpPr>
          <p:spPr>
            <a:xfrm>
              <a:off x="4356000" y="4078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56000" y="4222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812000" y="414936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812000" y="4294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451640" y="6454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885080" y="2422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932360" y="6310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932360" y="6454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32360" y="659736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3544920" y="2406600"/>
            <a:ext cx="117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Via de las pentosas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812000" y="1413000"/>
            <a:ext cx="11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Via de las pentosas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818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4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826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827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2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11280" y="1341360"/>
            <a:ext cx="7704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</a:t>
            </a: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 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3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4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10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11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620640"/>
            <a:ext cx="82296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Desaminación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no</a:t>
            </a:r>
            <a:r>
              <a:rPr b="1" lang="es-E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 oxidativa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074600" y="1969920"/>
            <a:ext cx="2057400" cy="1965600"/>
            <a:chOff x="1074600" y="1969920"/>
            <a:chExt cx="2057400" cy="1965600"/>
          </a:xfrm>
        </p:grpSpPr>
        <p:graphicFrame>
          <p:nvGraphicFramePr>
            <p:cNvPr id="119" name=""/>
            <p:cNvGraphicFramePr/>
            <p:nvPr/>
          </p:nvGraphicFramePr>
          <p:xfrm>
            <a:off x="1074600" y="1969920"/>
            <a:ext cx="2057400" cy="1498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74600" y="1969920"/>
                      <a:ext cx="2057400" cy="14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2013840" y="353664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Ser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437080" y="2043000"/>
            <a:ext cx="2027880" cy="1825560"/>
            <a:chOff x="5437080" y="2043000"/>
            <a:chExt cx="2027880" cy="1825560"/>
          </a:xfrm>
        </p:grpSpPr>
        <p:grpSp>
          <p:nvGrpSpPr>
            <p:cNvPr id="123" name=""/>
            <p:cNvGrpSpPr/>
            <p:nvPr/>
          </p:nvGrpSpPr>
          <p:grpSpPr>
            <a:xfrm>
              <a:off x="5437080" y="2043000"/>
              <a:ext cx="1095120" cy="1825560"/>
              <a:chOff x="5437080" y="2043000"/>
              <a:chExt cx="1095120" cy="18255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651280" y="2043000"/>
                <a:ext cx="725040" cy="1378800"/>
                <a:chOff x="5651280" y="2043000"/>
                <a:chExt cx="725040" cy="13788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651280" y="21002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854680" y="21002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072120" y="21002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289200" y="204300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651280" y="257796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651280" y="30430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854320" y="30430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057360" y="316224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751360" y="239868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883120" y="273492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751360" y="286524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871960" y="278280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59240" y="25668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5437080" y="3500280"/>
                <a:ext cx="109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Piruv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6526800" y="2527200"/>
              <a:ext cx="93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+ NH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0" lang="en-US" sz="20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203640" y="2066760"/>
            <a:ext cx="2624760" cy="1720800"/>
            <a:chOff x="3203640" y="2066760"/>
            <a:chExt cx="2624760" cy="1720800"/>
          </a:xfrm>
        </p:grpSpPr>
        <p:sp>
          <p:nvSpPr>
            <p:cNvPr id="141" name=""/>
            <p:cNvSpPr/>
            <p:nvPr/>
          </p:nvSpPr>
          <p:spPr>
            <a:xfrm>
              <a:off x="3348000" y="2781360"/>
              <a:ext cx="20160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720" y="2852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76720" y="206676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Arial"/>
                </a:rPr>
                <a:t>Ser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03640" y="2781360"/>
              <a:ext cx="863280" cy="100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5012000">
              <a:off x="4776480" y="2684160"/>
              <a:ext cx="863640" cy="100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60" y="144"/>
                  </a:moveTo>
                  <a:arcTo wR="10800" hR="10800" stAng="-4837176" swAng="48371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60" y="144"/>
                  </a:moveTo>
                  <a:arcTo wR="10800" hR="10800" stAng="-4837176" swAng="4837176"/>
                </a:path>
              </a:pathLst>
            </a:custGeom>
            <a:noFill/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76040" y="32479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25480" y="32479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732720" y="2205000"/>
            <a:ext cx="720720" cy="1008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82520" y="4076640"/>
            <a:ext cx="1976760" cy="2307240"/>
            <a:chOff x="1082520" y="4076640"/>
            <a:chExt cx="1976760" cy="2307240"/>
          </a:xfrm>
        </p:grpSpPr>
        <p:graphicFrame>
          <p:nvGraphicFramePr>
            <p:cNvPr id="150" name=""/>
            <p:cNvGraphicFramePr/>
            <p:nvPr/>
          </p:nvGraphicFramePr>
          <p:xfrm>
            <a:off x="1082520" y="4076640"/>
            <a:ext cx="1976760" cy="1940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82520" y="4076640"/>
                      <a:ext cx="1976760" cy="194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"/>
            <p:cNvSpPr/>
            <p:nvPr/>
          </p:nvSpPr>
          <p:spPr>
            <a:xfrm>
              <a:off x="1693080" y="598500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Treon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130560" y="4365720"/>
            <a:ext cx="2624400" cy="1719720"/>
            <a:chOff x="3130560" y="4365720"/>
            <a:chExt cx="2624400" cy="1719720"/>
          </a:xfrm>
        </p:grpSpPr>
        <p:sp>
          <p:nvSpPr>
            <p:cNvPr id="154" name=""/>
            <p:cNvSpPr/>
            <p:nvPr/>
          </p:nvSpPr>
          <p:spPr>
            <a:xfrm>
              <a:off x="3274920" y="5079960"/>
              <a:ext cx="20160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95640" y="515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03640" y="436572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Arial"/>
                </a:rPr>
                <a:t>Treon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30560" y="5079960"/>
              <a:ext cx="86328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5012000">
              <a:off x="4703400" y="4982040"/>
              <a:ext cx="862920" cy="100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60" y="144"/>
                  </a:moveTo>
                  <a:arcTo wR="10800" hR="10800" stAng="-4837176" swAng="48371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60" y="144"/>
                  </a:moveTo>
                  <a:arcTo wR="10800" hR="10800" stAng="-4837176" swAng="4837176"/>
                </a:path>
              </a:pathLst>
            </a:custGeom>
            <a:noFill/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02960" y="55465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52400" y="55465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132880" y="4044960"/>
            <a:ext cx="2332080" cy="2338560"/>
            <a:chOff x="5132880" y="4044960"/>
            <a:chExt cx="2332080" cy="2338560"/>
          </a:xfrm>
        </p:grpSpPr>
        <p:grpSp>
          <p:nvGrpSpPr>
            <p:cNvPr id="162" name=""/>
            <p:cNvGrpSpPr/>
            <p:nvPr/>
          </p:nvGrpSpPr>
          <p:grpSpPr>
            <a:xfrm>
              <a:off x="5132880" y="4044960"/>
              <a:ext cx="1718280" cy="2338560"/>
              <a:chOff x="5132880" y="4044960"/>
              <a:chExt cx="1718280" cy="233856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5575320" y="4044960"/>
                <a:ext cx="725040" cy="1807200"/>
                <a:chOff x="5575320" y="4044960"/>
                <a:chExt cx="725040" cy="18072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575320" y="41022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778360" y="41022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96160" y="41022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213240" y="404496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575320" y="45799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575320" y="50450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778360" y="50450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981760" y="516420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583240" y="5470560"/>
                  <a:ext cx="493200" cy="38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H</a:t>
                  </a:r>
                  <a:r>
                    <a:rPr b="0" lang="en-US" sz="2200" spc="-1" strike="noStrike" baseline="-25000">
                      <a:solidFill>
                        <a:srgbClr val="000099"/>
                      </a:solidFill>
                      <a:latin typeface="Arial"/>
                    </a:rPr>
                    <a:t>3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77836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99580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213600" y="541332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75400" y="440064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807160" y="473724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675400" y="486720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675400" y="5332320"/>
                  <a:ext cx="0" cy="1875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796000" y="478476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083280" y="456876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5132880" y="6015240"/>
                <a:ext cx="171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α</a:t>
                </a: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-cetobuti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526800" y="4832280"/>
              <a:ext cx="93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+ NH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0" lang="en-US" sz="20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732720" y="4581360"/>
            <a:ext cx="720720" cy="1008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86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2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373840" y="677880"/>
            <a:ext cx="42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Toxicidad del amo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55640" y="1628640"/>
            <a:ext cx="7632720" cy="2678040"/>
            <a:chOff x="755640" y="1628640"/>
            <a:chExt cx="7632720" cy="2678040"/>
          </a:xfrm>
        </p:grpSpPr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755640" y="1628640"/>
              <a:ext cx="763272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994320" y="3938400"/>
              <a:ext cx="1233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95080" y="3938400"/>
              <a:ext cx="1707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cetogluta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9400" y="3229560"/>
              <a:ext cx="2917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Glutamato 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667640" y="2709720"/>
            <a:ext cx="0" cy="790560"/>
          </a:xfrm>
          <a:prstGeom prst="line">
            <a:avLst/>
          </a:prstGeom>
          <a:ln w="73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059280" y="3213000"/>
            <a:ext cx="302544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20800" y="5032440"/>
            <a:ext cx="2454480" cy="557280"/>
            <a:chOff x="820800" y="5032440"/>
            <a:chExt cx="2454480" cy="557280"/>
          </a:xfrm>
        </p:grpSpPr>
        <p:sp>
          <p:nvSpPr>
            <p:cNvPr id="202" name=""/>
            <p:cNvSpPr/>
            <p:nvPr/>
          </p:nvSpPr>
          <p:spPr>
            <a:xfrm>
              <a:off x="82080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4080" y="503244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6699"/>
                  </a:solidFill>
                  <a:latin typeface="Arial"/>
                </a:rPr>
                <a:t>α</a:t>
              </a:r>
              <a:r>
                <a:rPr b="1" lang="en-US" sz="2400" spc="-1" strike="noStrike">
                  <a:solidFill>
                    <a:srgbClr val="006699"/>
                  </a:solidFill>
                  <a:latin typeface="Arial"/>
                </a:rPr>
                <a:t>-cetoglutar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367080" y="5013360"/>
            <a:ext cx="3180960" cy="576360"/>
            <a:chOff x="3367080" y="5013360"/>
            <a:chExt cx="3180960" cy="576360"/>
          </a:xfrm>
        </p:grpSpPr>
        <p:sp>
          <p:nvSpPr>
            <p:cNvPr id="205" name=""/>
            <p:cNvSpPr/>
            <p:nvPr/>
          </p:nvSpPr>
          <p:spPr>
            <a:xfrm>
              <a:off x="3367080" y="5302080"/>
              <a:ext cx="57636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5908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33600" y="501336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Arial"/>
                </a:rPr>
                <a:t>Ciclo de Kre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599160" y="5013360"/>
            <a:ext cx="1570680" cy="576360"/>
            <a:chOff x="6599160" y="5013360"/>
            <a:chExt cx="1570680" cy="576360"/>
          </a:xfrm>
        </p:grpSpPr>
        <p:sp>
          <p:nvSpPr>
            <p:cNvPr id="209" name=""/>
            <p:cNvSpPr/>
            <p:nvPr/>
          </p:nvSpPr>
          <p:spPr>
            <a:xfrm>
              <a:off x="6599160" y="5302080"/>
              <a:ext cx="57636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1988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81080" y="50133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6084720" y="2060640"/>
            <a:ext cx="1366920" cy="25207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14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0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5280" y="549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mo el hace el organismo para evitar la hiperamonemia y transportar el amon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co hasta los sitios de eliminaci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11280" y="1820880"/>
            <a:ext cx="8064360" cy="4921200"/>
            <a:chOff x="611280" y="1820880"/>
            <a:chExt cx="8064360" cy="4921200"/>
          </a:xfrm>
        </p:grpSpPr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611280" y="1820880"/>
              <a:ext cx="8064360" cy="49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821520" y="1916280"/>
              <a:ext cx="2044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Mayoría de los tej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25240" y="1865160"/>
              <a:ext cx="95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íg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06520" y="1865160"/>
              <a:ext cx="1108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úscu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03480" y="3429000"/>
              <a:ext cx="110016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sinte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76360" y="4508640"/>
              <a:ext cx="1100160" cy="213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03640" y="2565360"/>
              <a:ext cx="1100160" cy="285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76360" y="2565360"/>
              <a:ext cx="1100160" cy="285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48000" y="4508640"/>
              <a:ext cx="1100160" cy="213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16360" y="2492280"/>
              <a:ext cx="863640" cy="426600"/>
            </a:xfrm>
            <a:prstGeom prst="rect">
              <a:avLst/>
            </a:prstGeom>
            <a:solidFill>
              <a:srgbClr val="ffff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RE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80000" y="3503520"/>
              <a:ext cx="10998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Glutam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36000" y="3529080"/>
              <a:ext cx="1223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Glutamato 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(GD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8831600">
              <a:off x="4357800" y="4076280"/>
              <a:ext cx="505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G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30920" y="4944960"/>
              <a:ext cx="504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20000" y="5013360"/>
              <a:ext cx="504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8000" y="2492280"/>
              <a:ext cx="1297080" cy="357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Aminoác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11640" y="537372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64360" y="537372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84720" y="630864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80360" y="630864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21440" y="5734080"/>
              <a:ext cx="1871640" cy="49860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CLO GLUCOSA-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48360" y="5373720"/>
              <a:ext cx="792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00720" y="5373720"/>
              <a:ext cx="79236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900000" y="278136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59280" y="314172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48360" y="314172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55320" y="580392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uconeoge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32000" y="1773360"/>
            <a:ext cx="309564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5661000"/>
            <a:ext cx="2448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132000" y="3789360"/>
            <a:ext cx="3095640" cy="3068280"/>
            <a:chOff x="3132000" y="3789360"/>
            <a:chExt cx="3095640" cy="3068280"/>
          </a:xfrm>
        </p:grpSpPr>
        <p:sp>
          <p:nvSpPr>
            <p:cNvPr id="253" name=""/>
            <p:cNvSpPr/>
            <p:nvPr/>
          </p:nvSpPr>
          <p:spPr>
            <a:xfrm>
              <a:off x="4427640" y="3789360"/>
              <a:ext cx="1762200" cy="29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32000" y="4932720"/>
              <a:ext cx="3095640" cy="192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56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2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403440" y="773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Glutami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187280" y="1557360"/>
            <a:ext cx="4760280" cy="4524480"/>
            <a:chOff x="1187280" y="1557360"/>
            <a:chExt cx="4760280" cy="4524480"/>
          </a:xfrm>
        </p:grpSpPr>
        <p:sp>
          <p:nvSpPr>
            <p:cNvPr id="265" name=""/>
            <p:cNvSpPr/>
            <p:nvPr/>
          </p:nvSpPr>
          <p:spPr>
            <a:xfrm>
              <a:off x="3790080" y="5805360"/>
              <a:ext cx="21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3333cc"/>
                  </a:solidFill>
                  <a:latin typeface="Arial"/>
                </a:rPr>
                <a:t>Extraído de Lehninger, 2008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2"/>
            <a:srcRect l="0" t="50898" r="0" b="0"/>
            <a:stretch/>
          </p:blipFill>
          <p:spPr>
            <a:xfrm>
              <a:off x="1187280" y="1557360"/>
              <a:ext cx="4753080" cy="417996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267" name=""/>
            <p:cNvSpPr/>
            <p:nvPr/>
          </p:nvSpPr>
          <p:spPr>
            <a:xfrm>
              <a:off x="4532760" y="2708280"/>
              <a:ext cx="1335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L-Glu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60040" y="5445000"/>
              <a:ext cx="13478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L-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76360" y="3213000"/>
              <a:ext cx="1760400" cy="70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3399ff"/>
                  </a:solidFill>
                  <a:latin typeface="Arial"/>
                </a:rPr>
                <a:t>Glutam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(mitocondrias de hígado y riñó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" descr=""/>
          <p:cNvPicPr/>
          <p:nvPr/>
        </p:nvPicPr>
        <p:blipFill>
          <a:blip r:embed="rId3"/>
          <a:srcRect l="40133" t="22479" r="41024" b="56395"/>
          <a:stretch/>
        </p:blipFill>
        <p:spPr>
          <a:xfrm>
            <a:off x="4356000" y="4076640"/>
            <a:ext cx="1513080" cy="71928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6012000" y="2984400"/>
            <a:ext cx="2443680" cy="1812960"/>
            <a:chOff x="6012000" y="2984400"/>
            <a:chExt cx="2443680" cy="1812960"/>
          </a:xfrm>
        </p:grpSpPr>
        <p:sp>
          <p:nvSpPr>
            <p:cNvPr id="272" name=""/>
            <p:cNvSpPr/>
            <p:nvPr/>
          </p:nvSpPr>
          <p:spPr>
            <a:xfrm>
              <a:off x="6228360" y="2984400"/>
              <a:ext cx="2227320" cy="17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Molécula pequeñ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Sin carg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At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  <a:ea typeface="Arial"/>
                </a:rPr>
                <a:t>ó</a:t>
              </a: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x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Difu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Solu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Elimina NH</a:t>
              </a:r>
              <a:r>
                <a:rPr b="1" lang="es-ES_tradnl" sz="18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 y CO</a:t>
              </a:r>
              <a:r>
                <a:rPr b="1" lang="es-ES_tradnl" sz="18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12000" y="2997360"/>
              <a:ext cx="287280" cy="1800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75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76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1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87280" y="62064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Formas de excreción del nitrógeno en las diferentes especies an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77800" y="2060640"/>
            <a:ext cx="8026560" cy="3095640"/>
            <a:chOff x="577800" y="2060640"/>
            <a:chExt cx="8026560" cy="3095640"/>
          </a:xfrm>
        </p:grpSpPr>
        <p:pic>
          <p:nvPicPr>
            <p:cNvPr id="284" name="" descr=""/>
            <p:cNvPicPr/>
            <p:nvPr/>
          </p:nvPicPr>
          <p:blipFill>
            <a:blip r:embed="rId2"/>
            <a:srcRect l="0" t="0" r="0" b="9026"/>
            <a:stretch/>
          </p:blipFill>
          <p:spPr>
            <a:xfrm>
              <a:off x="577800" y="2060640"/>
              <a:ext cx="8026560" cy="309564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285" name=""/>
            <p:cNvSpPr/>
            <p:nvPr/>
          </p:nvSpPr>
          <p:spPr>
            <a:xfrm>
              <a:off x="1154160" y="3139920"/>
              <a:ext cx="1584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Ion Amon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18160" y="3500280"/>
              <a:ext cx="158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U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81800" y="3716280"/>
              <a:ext cx="1584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Acido Ur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2520" y="3932280"/>
              <a:ext cx="2519280" cy="82404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amon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mayoría de vertebrados acuático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14880" y="4149720"/>
              <a:ext cx="2519280" cy="82404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ure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muchos vertebrados terrestres y tiburon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05440" y="4365360"/>
              <a:ext cx="2519640" cy="58068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uric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pájaros y reptil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1692360" y="907920"/>
            <a:ext cx="5472000" cy="5722920"/>
            <a:chOff x="1692360" y="907920"/>
            <a:chExt cx="5472000" cy="572292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rcRect l="0" t="2560" r="0" b="0"/>
            <a:stretch/>
          </p:blipFill>
          <p:spPr>
            <a:xfrm>
              <a:off x="1692360" y="907920"/>
              <a:ext cx="547200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2832120" y="1504800"/>
              <a:ext cx="303120" cy="30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16560" y="2854440"/>
              <a:ext cx="30312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68760" y="2854440"/>
              <a:ext cx="30312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16560" y="4948200"/>
              <a:ext cx="303120" cy="30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66960" y="4873680"/>
              <a:ext cx="30348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80640" y="1569960"/>
              <a:ext cx="49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54160" y="2649600"/>
              <a:ext cx="49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9000" y="270000"/>
            <a:ext cx="5056920" cy="4480920"/>
            <a:chOff x="279000" y="270000"/>
            <a:chExt cx="5056920" cy="4480920"/>
          </a:xfrm>
        </p:grpSpPr>
        <p:sp>
          <p:nvSpPr>
            <p:cNvPr id="301" name=""/>
            <p:cNvSpPr/>
            <p:nvPr/>
          </p:nvSpPr>
          <p:spPr>
            <a:xfrm rot="1738800">
              <a:off x="684000" y="1125000"/>
              <a:ext cx="4246560" cy="2770200"/>
            </a:xfrm>
            <a:prstGeom prst="ellipse">
              <a:avLst/>
            </a:prstGeom>
            <a:solidFill>
              <a:srgbClr val="ffcc99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656640" y="182268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itocond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897360" y="3408840"/>
              <a:ext cx="772560" cy="831600"/>
              <a:chOff x="3897360" y="3408840"/>
              <a:chExt cx="772560" cy="831600"/>
            </a:xfrm>
          </p:grpSpPr>
          <p:sp>
            <p:nvSpPr>
              <p:cNvPr id="304" name=""/>
              <p:cNvSpPr/>
              <p:nvPr/>
            </p:nvSpPr>
            <p:spPr>
              <a:xfrm rot="20964600">
                <a:off x="4002120" y="3572640"/>
                <a:ext cx="576360" cy="576360"/>
              </a:xfrm>
              <a:prstGeom prst="ellipse">
                <a:avLst/>
              </a:prstGeom>
              <a:solidFill>
                <a:srgbClr val="ff9900">
                  <a:alpha val="9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3897360" y="3714120"/>
                <a:ext cx="318240" cy="52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4352040" y="3408840"/>
                <a:ext cx="317880" cy="527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08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09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4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206160" y="40464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iclo de la 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987640" y="981000"/>
            <a:ext cx="2233080" cy="576000"/>
            <a:chOff x="2987640" y="981000"/>
            <a:chExt cx="2233080" cy="576000"/>
          </a:xfrm>
        </p:grpSpPr>
        <p:sp>
          <p:nvSpPr>
            <p:cNvPr id="317" name=""/>
            <p:cNvSpPr/>
            <p:nvPr/>
          </p:nvSpPr>
          <p:spPr>
            <a:xfrm flipV="1">
              <a:off x="2987640" y="1267920"/>
              <a:ext cx="792000" cy="28908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72040" y="981000"/>
              <a:ext cx="194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(+) N-acetil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340000" y="836640"/>
            <a:ext cx="431640" cy="5763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715640" y="1700280"/>
            <a:ext cx="100980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71" y="6"/>
                </a:moveTo>
                <a:arcTo wR="10800" hR="10800" stAng="-5281938" swAng="5281938"/>
                <a:lnTo>
                  <a:pt x="10800" y="10800"/>
                </a:lnTo>
                <a:close/>
              </a:path>
              <a:path fill="none" w="21600" h="21600">
                <a:moveTo>
                  <a:pt x="11171" y="6"/>
                </a:moveTo>
                <a:arcTo wR="10800" hR="10800" stAng="-5281938" swAng="5281938"/>
              </a:path>
            </a:pathLst>
          </a:custGeom>
          <a:noFill/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50920" y="4941720"/>
            <a:ext cx="792360" cy="79236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25080" y="59500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88000" y="3141720"/>
            <a:ext cx="217440" cy="5032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9897800">
            <a:off x="4140000" y="4941360"/>
            <a:ext cx="360360" cy="35892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92360" y="4724280"/>
            <a:ext cx="251928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211640" y="4869000"/>
            <a:ext cx="295272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03640" y="907920"/>
            <a:ext cx="2160720" cy="39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3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22:43:58Z</dcterms:created>
  <dc:creator>Colossus User</dc:creator>
  <dc:description/>
  <dc:language>en-US</dc:language>
  <cp:lastModifiedBy>Colossus User</cp:lastModifiedBy>
  <dcterms:modified xsi:type="dcterms:W3CDTF">2012-05-28T13:20:00Z</dcterms:modified>
  <cp:revision>25</cp:revision>
  <dc:subject/>
  <dc:title>METABOLISMO DE AMINOACIDOS (Bolilla 9)</dc:title>
</cp:coreProperties>
</file>